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7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TYPE.WAV" ContentType="audio/x-wav"/>
  <Override PartName="/ppt/media/image8.jpeg" ContentType="image/jpeg"/>
  <Override PartName="/ppt/media/image28.jpeg" ContentType="image/jpeg"/>
  <Override PartName="/ppt/media/image18.png" ContentType="image/png"/>
  <Override PartName="/ppt/media/image7.jpeg" ContentType="image/jpeg"/>
  <Override PartName="/ppt/media/image4.png" ContentType="image/png"/>
  <Override PartName="/ppt/media/image12.jpeg" ContentType="image/jpeg"/>
  <Override PartName="/ppt/media/image6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FF03-1819-479A-B158-A26738AECB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E222-A89E-4FF9-9ED3-4C95B9B8ED4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694D-98AE-42BC-A9AE-CE839B51E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5469-8309-4739-8E5E-33EE2959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A643-A552-459A-9EBE-30321DCCC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A15B-2BAD-4712-A737-A78667218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6AFE-AA10-4311-88E0-EC7D30662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F9F4-7B3E-4713-951B-36E17372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68A8-D080-4383-89B5-34DE21FE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F9D5-EA69-4AC4-954E-3CB6E5B2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DC87-4CE7-4C2B-94E3-82A80472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262B-D96F-40D6-9370-4B86ECF9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9F97-E892-4DBD-9490-0E5EA4B8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60EC-B86F-4989-A3A2-440ACED0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CB7B-3E0E-4CC3-A816-52A64271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431E-5CDA-4E7C-B0FD-C9DEA9AC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22AF-B78E-4369-B575-E8800495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3893-DE3F-4F24-8DEB-2D99E98BC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9CC8-D075-448E-AACA-FA6F0AB2C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F86E5-3582-4A42-9C87-4A21D287F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FA78A-69D2-4D70-ACC8-188D9945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8F3BB-8A62-459E-BAB4-EA96A3CB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7A16B-5A4A-42B2-9FAE-ACD95CEF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E0AEB-0593-4988-BB42-91CFEA2E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1CF6-385A-42DB-A6B8-4B8B5FE2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94AF4-035B-4379-A46A-061E74DA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26793-2D5B-4018-95A1-98A5EF6D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97B3F-F767-48B0-BF58-80E4A78D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FE7C8-588F-428F-B486-60BF573A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4355A-AA5C-4C90-AEF2-57E7DA82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2ECC7-AF4D-4DBD-B9D4-A10F7C7A6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23464-18C3-4B4D-89D2-CF3151CF3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53F7F-AE85-4EFD-99EE-269F7774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1816A-B78D-41C2-9652-1E5AD2C3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07267-E7AF-415A-9D08-B3E5DD59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1304-3D50-451F-A76B-41B18466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F2D25-B4DF-429A-8248-DDA861AC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F9D7E-82BF-46C9-AA31-72D9FEEA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D938E-F8CE-4465-96AF-0C8A220C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B6C2C-B879-44A0-923D-7F6BA5CA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B2155-F2D8-49EC-9E5E-2B618E31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72EC1-5DA0-45CC-A8DC-9D86B53C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5F26B-B116-45F9-B6AE-6CB86AAE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173ED-3C74-4CF1-8B3C-A08C734D0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5DD89-EDC7-4DC2-9540-BBF9BCEFA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A411C-DF42-4210-9D1A-05A09E45B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3FFF-303F-499A-A446-FF082099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F2462-EB9B-47F7-941B-120EAE77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99E05-51A3-4E9F-AEC5-ECD81D71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FBAE9-4F87-4A16-8AD7-FC3FE90E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71BF7-7772-4DE6-A081-B39FDFC9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C9343-60BE-44CB-AAB2-57B69CFF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97D83-161C-4D16-BDC3-B18FBF0E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C132E-3F4E-441F-8238-B8E468DE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40EFE-82B0-4D6B-A12D-76AE31BC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76460-130E-4D67-A96F-43253F15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ADEC3-2C4A-47FA-832F-24AB786E1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59DF-364A-40FB-B2DA-4F4A815E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051EA-3266-4017-9293-09998EB58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E5037-FD60-428E-9DBD-4114D70A4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AC421-1676-484D-ABF4-086F711A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2F44D-C701-418F-9B46-1DA5DE37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1FE25-1247-44A5-B2C4-9D6D5AA1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7A278-F23B-42C5-BD93-8063AA24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C029B-4E15-45B2-ADF5-0715670C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7D87B-6C76-4C9F-85CA-719E32E8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1F07E-05C7-42A1-B4FE-0C402442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171CB-9111-4C2A-A44A-A05CC123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FB0B-8625-4AAB-A303-48C12BF2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7BEB4-20FF-4EAB-BC23-77E16F99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65BE6-F3B8-4D60-82DA-130DABA88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ACA54-A5B4-4ED7-9D85-E348037F7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C9FF-2736-4057-B6EB-FA105800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48D4-E037-4798-8B39-A4D52DF0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2499-8199-4E10-A282-3C91ED5396CF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6AAA-5C95-4C0C-A115-60F8B947E56E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B810-6BA0-4882-85F8-5AEB6E977C4B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9AB0-A0DB-474C-81F7-337450CB134E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BB2E-593F-4B24-BC13-47A2B344D48B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6776-AE38-407F-9CCE-839DECDE31FB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image" Target="../media/image25.jpeg"/><Relationship Id="rId16" Type="http://schemas.openxmlformats.org/officeDocument/2006/relationships/image" Target="../media/image26.jpeg"/><Relationship Id="rId17" Type="http://schemas.openxmlformats.org/officeDocument/2006/relationships/image" Target="../media/image27.jpeg"/><Relationship Id="rId18" Type="http://schemas.openxmlformats.org/officeDocument/2006/relationships/image" Target="../media/image28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pptcloud.ru/obzh/chs_prirodnogo_tehnogennogo_haraktera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2" descr=""/>
          <p:cNvPicPr/>
          <p:nvPr/>
        </p:nvPicPr>
        <p:blipFill>
          <a:blip r:embed="rId1"/>
          <a:stretch/>
        </p:blipFill>
        <p:spPr>
          <a:xfrm>
            <a:off x="317520" y="360360"/>
            <a:ext cx="858204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6"/>
          <p:cNvSpPr/>
          <p:nvPr/>
        </p:nvSpPr>
        <p:spPr>
          <a:xfrm>
            <a:off x="324000" y="476280"/>
            <a:ext cx="8496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о скорости развития ЧС делят: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зрывные, внезапные, скоротечные, плавны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324000" y="4581360"/>
            <a:ext cx="8424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6.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о масштабу распространения ЧС бывают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окальные,  местные, территориальные, региональные,  федеральные, трансграничны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324000" y="1557360"/>
            <a:ext cx="835164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4. По возможности предотвращения ЧС делят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избежные (природные),  предотвращаемые (техногенные, социальные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Прямоугольник 9"/>
          <p:cNvSpPr/>
          <p:nvPr/>
        </p:nvSpPr>
        <p:spPr>
          <a:xfrm>
            <a:off x="395280" y="2924280"/>
            <a:ext cx="8424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5. По ведомственной принадлежности: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в промышленности,  строительстве, на транспорте, в жилищно-коммунальной сфере, сельском, лесном хозяйстве и т.д.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4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75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995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5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75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132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5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75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0" y="642960"/>
          <a:ext cx="9144000" cy="6012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 Ч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пострадав-ши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рушены условия  жизн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териаль-ный ущер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распрас-  транения  Ч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4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каль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более 1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более 10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более 1 тыс. МРО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выходит за пределы  объе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0 до 50  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00 до 30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 тыс. до 5 тыс. МРО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выходит за пределы города, района, н.пун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ритори-аль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50 до500  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300 до 500 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5 тыс. до 500 тыс. МРО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выходит за пределы субъекта Р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ль-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50 до 50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500 до 100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500 тыс. до 5 млн. МРО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выходит за пределы 2-х субъектов Р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-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 50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 100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 5 млн. МРО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ходит за пределы 2-х субъектов Р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нсгранич-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ходит за пределы Р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Заголовок 2" descr=""/>
          <p:cNvPicPr/>
          <p:nvPr/>
        </p:nvPicPr>
        <p:blipFill>
          <a:blip r:embed="rId1"/>
          <a:stretch/>
        </p:blipFill>
        <p:spPr>
          <a:xfrm>
            <a:off x="676440" y="225360"/>
            <a:ext cx="7785000" cy="10494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24000" y="1197000"/>
            <a:ext cx="8496000" cy="12240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ЧС техногенного характе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Object 5"/>
          <p:cNvGraphicFramePr/>
          <p:nvPr/>
        </p:nvGraphicFramePr>
        <p:xfrm>
          <a:off x="395280" y="2924280"/>
          <a:ext cx="3960720" cy="345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924280"/>
                    <a:ext cx="3960720" cy="3457440"/>
                  </a:xfrm>
                  <a:prstGeom prst="rect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92" name="Picture 5" descr="207894"/>
          <p:cNvPicPr/>
          <p:nvPr/>
        </p:nvPicPr>
        <p:blipFill>
          <a:blip r:embed="rId4"/>
          <a:stretch/>
        </p:blipFill>
        <p:spPr>
          <a:xfrm>
            <a:off x="4788000" y="2924280"/>
            <a:ext cx="4032000" cy="34574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1"/>
          <p:cNvSpPr/>
          <p:nvPr/>
        </p:nvSpPr>
        <p:spPr>
          <a:xfrm>
            <a:off x="0" y="0"/>
            <a:ext cx="9128160" cy="620640"/>
          </a:xfrm>
          <a:prstGeom prst="rect">
            <a:avLst/>
          </a:prstGeom>
          <a:solidFill>
            <a:srgbClr val="c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резвычайные ситуации техногенного характе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Прямоугольник 2"/>
          <p:cNvSpPr/>
          <p:nvPr/>
        </p:nvSpPr>
        <p:spPr>
          <a:xfrm>
            <a:off x="0" y="770040"/>
            <a:ext cx="2195640" cy="57600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Транспортные авари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Прямоугольник 3"/>
          <p:cNvSpPr/>
          <p:nvPr/>
        </p:nvSpPr>
        <p:spPr>
          <a:xfrm>
            <a:off x="0" y="1484280"/>
            <a:ext cx="2195640" cy="115272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варии  с выбросом биологически опасных вещест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Прямоугольник 4"/>
          <p:cNvSpPr/>
          <p:nvPr/>
        </p:nvSpPr>
        <p:spPr>
          <a:xfrm>
            <a:off x="0" y="2744640"/>
            <a:ext cx="2195640" cy="93672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варии на очистных сооружения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Прямоугольник 5"/>
          <p:cNvSpPr/>
          <p:nvPr/>
        </p:nvSpPr>
        <p:spPr>
          <a:xfrm>
            <a:off x="0" y="3789360"/>
            <a:ext cx="2195640" cy="51444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Пожары и взрыв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Прямоугольник 6"/>
          <p:cNvSpPr/>
          <p:nvPr/>
        </p:nvSpPr>
        <p:spPr>
          <a:xfrm>
            <a:off x="0" y="4383000"/>
            <a:ext cx="2195640" cy="113832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Внезапное обрушение зданий и сооружени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Прямоугольник 8"/>
          <p:cNvSpPr/>
          <p:nvPr/>
        </p:nvSpPr>
        <p:spPr>
          <a:xfrm>
            <a:off x="6931080" y="1052640"/>
            <a:ext cx="2197080" cy="115236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варии  с выбросом химически опасных вещест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Прямоугольник 9"/>
          <p:cNvSpPr/>
          <p:nvPr/>
        </p:nvSpPr>
        <p:spPr>
          <a:xfrm>
            <a:off x="6915240" y="2421000"/>
            <a:ext cx="2195280" cy="115236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варии  с выбросом радиоактивных вещест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Прямоугольник 10"/>
          <p:cNvSpPr/>
          <p:nvPr/>
        </p:nvSpPr>
        <p:spPr>
          <a:xfrm>
            <a:off x="6915240" y="3789360"/>
            <a:ext cx="2195280" cy="115236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варии  на энергетических система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Прямоугольник 11"/>
          <p:cNvSpPr/>
          <p:nvPr/>
        </p:nvSpPr>
        <p:spPr>
          <a:xfrm>
            <a:off x="6915240" y="5157720"/>
            <a:ext cx="2195280" cy="120168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варии  на коммунальных системах жизнеобеспече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Прямоугольник 7"/>
          <p:cNvSpPr/>
          <p:nvPr/>
        </p:nvSpPr>
        <p:spPr>
          <a:xfrm>
            <a:off x="0" y="5732640"/>
            <a:ext cx="2195640" cy="93636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Arial"/>
              </a:rPr>
              <a:t>Гидродинамические аварии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Прямая соединительная линия 14"/>
          <p:cNvSpPr/>
          <p:nvPr/>
        </p:nvSpPr>
        <p:spPr>
          <a:xfrm>
            <a:off x="2484360" y="620640"/>
            <a:ext cx="22320" cy="5659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6516720" y="620640"/>
            <a:ext cx="0" cy="511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06" name="Прямая со стрелкой 18"/>
          <p:cNvCxnSpPr>
            <a:endCxn id="294" idx="3"/>
          </p:cNvCxnSpPr>
          <p:nvPr/>
        </p:nvCxnSpPr>
        <p:spPr>
          <a:xfrm flipH="1">
            <a:off x="2195280" y="1056960"/>
            <a:ext cx="2894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2135160" y="1981080"/>
            <a:ext cx="371520" cy="1587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"/>
          <p:cNvPicPr/>
          <p:nvPr/>
        </p:nvPicPr>
        <p:blipFill>
          <a:blip r:embed="rId2"/>
          <a:stretch/>
        </p:blipFill>
        <p:spPr>
          <a:xfrm>
            <a:off x="2112840" y="3133800"/>
            <a:ext cx="371520" cy="158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"/>
          <p:cNvPicPr/>
          <p:nvPr/>
        </p:nvPicPr>
        <p:blipFill>
          <a:blip r:embed="rId3"/>
          <a:stretch/>
        </p:blipFill>
        <p:spPr>
          <a:xfrm>
            <a:off x="2112840" y="3976560"/>
            <a:ext cx="371520" cy="158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4"/>
          <a:stretch/>
        </p:blipFill>
        <p:spPr>
          <a:xfrm>
            <a:off x="2133720" y="4873680"/>
            <a:ext cx="371520" cy="1587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7" descr=""/>
          <p:cNvPicPr/>
          <p:nvPr/>
        </p:nvPicPr>
        <p:blipFill>
          <a:blip r:embed="rId5"/>
          <a:stretch/>
        </p:blipFill>
        <p:spPr>
          <a:xfrm>
            <a:off x="2135160" y="6200640"/>
            <a:ext cx="371520" cy="158760"/>
          </a:xfrm>
          <a:prstGeom prst="rect">
            <a:avLst/>
          </a:prstGeom>
          <a:ln w="0">
            <a:noFill/>
          </a:ln>
        </p:spPr>
      </p:pic>
      <p:cxnSp>
        <p:nvCxnSpPr>
          <p:cNvPr id="312" name="Прямая со стрелкой 21"/>
          <p:cNvCxnSpPr/>
          <p:nvPr/>
        </p:nvCxnSpPr>
        <p:spPr>
          <a:xfrm>
            <a:off x="6516360" y="1639440"/>
            <a:ext cx="415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313" name="Picture 8" descr=""/>
          <p:cNvPicPr/>
          <p:nvPr/>
        </p:nvPicPr>
        <p:blipFill>
          <a:blip r:embed="rId6"/>
          <a:stretch/>
        </p:blipFill>
        <p:spPr>
          <a:xfrm>
            <a:off x="6531120" y="5653080"/>
            <a:ext cx="493560" cy="1587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9" descr=""/>
          <p:cNvPicPr/>
          <p:nvPr/>
        </p:nvPicPr>
        <p:blipFill>
          <a:blip r:embed="rId7"/>
          <a:stretch/>
        </p:blipFill>
        <p:spPr>
          <a:xfrm>
            <a:off x="6531120" y="4303800"/>
            <a:ext cx="493560" cy="1587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0" descr=""/>
          <p:cNvPicPr/>
          <p:nvPr/>
        </p:nvPicPr>
        <p:blipFill>
          <a:blip r:embed="rId8"/>
          <a:stretch/>
        </p:blipFill>
        <p:spPr>
          <a:xfrm>
            <a:off x="6531120" y="2959200"/>
            <a:ext cx="493560" cy="1587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1" descr=""/>
          <p:cNvPicPr/>
          <p:nvPr/>
        </p:nvPicPr>
        <p:blipFill>
          <a:blip r:embed="rId9"/>
          <a:stretch/>
        </p:blipFill>
        <p:spPr>
          <a:xfrm>
            <a:off x="2627280" y="770040"/>
            <a:ext cx="1728720" cy="10936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2" descr=""/>
          <p:cNvPicPr/>
          <p:nvPr/>
        </p:nvPicPr>
        <p:blipFill>
          <a:blip r:embed="rId10"/>
          <a:stretch/>
        </p:blipFill>
        <p:spPr>
          <a:xfrm>
            <a:off x="2600280" y="1981080"/>
            <a:ext cx="1733760" cy="1171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3" descr=""/>
          <p:cNvPicPr/>
          <p:nvPr/>
        </p:nvPicPr>
        <p:blipFill>
          <a:blip r:embed="rId11"/>
          <a:stretch/>
        </p:blipFill>
        <p:spPr>
          <a:xfrm>
            <a:off x="2627280" y="3213000"/>
            <a:ext cx="1728720" cy="11527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4" descr=""/>
          <p:cNvPicPr/>
          <p:nvPr/>
        </p:nvPicPr>
        <p:blipFill>
          <a:blip r:embed="rId12"/>
          <a:stretch/>
        </p:blipFill>
        <p:spPr>
          <a:xfrm>
            <a:off x="2627280" y="3213000"/>
            <a:ext cx="1728720" cy="11480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5" descr=""/>
          <p:cNvPicPr/>
          <p:nvPr/>
        </p:nvPicPr>
        <p:blipFill>
          <a:blip r:embed="rId13"/>
          <a:stretch/>
        </p:blipFill>
        <p:spPr>
          <a:xfrm>
            <a:off x="2627280" y="4452840"/>
            <a:ext cx="1728720" cy="11574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6" descr=""/>
          <p:cNvPicPr/>
          <p:nvPr/>
        </p:nvPicPr>
        <p:blipFill>
          <a:blip r:embed="rId14"/>
          <a:stretch/>
        </p:blipFill>
        <p:spPr>
          <a:xfrm>
            <a:off x="2577960" y="5616720"/>
            <a:ext cx="1704960" cy="11365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7" descr=""/>
          <p:cNvPicPr/>
          <p:nvPr/>
        </p:nvPicPr>
        <p:blipFill>
          <a:blip r:embed="rId15"/>
          <a:stretch/>
        </p:blipFill>
        <p:spPr>
          <a:xfrm>
            <a:off x="4830840" y="770040"/>
            <a:ext cx="1611360" cy="12110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8" descr=""/>
          <p:cNvPicPr/>
          <p:nvPr/>
        </p:nvPicPr>
        <p:blipFill>
          <a:blip r:embed="rId16"/>
          <a:stretch/>
        </p:blipFill>
        <p:spPr>
          <a:xfrm>
            <a:off x="4830840" y="2205000"/>
            <a:ext cx="1611360" cy="1074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9" descr=""/>
          <p:cNvPicPr/>
          <p:nvPr/>
        </p:nvPicPr>
        <p:blipFill>
          <a:blip r:embed="rId17"/>
          <a:stretch/>
        </p:blipFill>
        <p:spPr>
          <a:xfrm>
            <a:off x="4827600" y="3573360"/>
            <a:ext cx="1612800" cy="12891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0" descr=""/>
          <p:cNvPicPr/>
          <p:nvPr/>
        </p:nvPicPr>
        <p:blipFill>
          <a:blip r:embed="rId18"/>
          <a:stretch/>
        </p:blipFill>
        <p:spPr>
          <a:xfrm>
            <a:off x="4851360" y="5248440"/>
            <a:ext cx="1590840" cy="1191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617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ы развития ЧС</a:t>
            </a:r>
            <a:br>
              <a:rPr sz="2800"/>
            </a:b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Накопление отклонений от нормального состояния или процесса.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Проявление фактора неустойчивости или «аварийная ситуация» (видны  предпосылки, есть реальная возможность предотвратить или  уменьшить ЧС).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Процесс чрезвычайного события (происходит воздействие на людей и окружающую среду.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Выход аварии за пределы территории объекта и действие остаточных факторов поражения.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Ликвидация последствий аварии или  стихийного бедствия (поисково-спасательные, аварийно-восстановительные работы). 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91503"/>
                </a:solidFill>
                <a:latin typeface="Times New Roman"/>
                <a:ea typeface="Times New Roman"/>
              </a:rPr>
              <a:t>ВОПРОС 3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ЧС природного характер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6" descr="2143459841"/>
          <p:cNvPicPr/>
          <p:nvPr/>
        </p:nvPicPr>
        <p:blipFill>
          <a:blip r:embed="rId1"/>
          <a:stretch/>
        </p:blipFill>
        <p:spPr>
          <a:xfrm>
            <a:off x="4572000" y="2781360"/>
            <a:ext cx="4176720" cy="38163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330" name="Picture 4" descr="a3199732-1"/>
          <p:cNvPicPr/>
          <p:nvPr/>
        </p:nvPicPr>
        <p:blipFill>
          <a:blip r:embed="rId2"/>
          <a:stretch/>
        </p:blipFill>
        <p:spPr>
          <a:xfrm>
            <a:off x="324000" y="2781360"/>
            <a:ext cx="3852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85480" y="333000"/>
            <a:ext cx="86072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резвычайные ситуации  природного характ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еофизические опасные явления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землетрясения, извержение вулкан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Геологические опасные явления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оползни, сели, обвалы, осыпи, лавин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теорологически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агрометеорологические) опасные явления  (бури, смерчи, ураганы, град, сильный дождь, снег, мороз, метель, жара, туман, засух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рские гидрологические опасные явления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цунами, шторм, тайфуны, напор льд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идрологические опасные явления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наводнения, низкий уровень воды, ветровые нагон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родные пожары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лесные, степные, торфяные, подземны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Вопросы для закрепления.</a:t>
            </a:r>
            <a:br>
              <a:rPr sz="4600"/>
            </a:br>
            <a:r>
              <a:rPr b="1" i="1" lang="ru-RU" sz="4000" spc="-1" strike="noStrike">
                <a:solidFill>
                  <a:srgbClr val="ffffff"/>
                </a:solidFill>
                <a:latin typeface="Franklin Gothic Book"/>
              </a:rPr>
              <a:t>1. Найдите ошибки.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К ЧС  техногенного характера относятся: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а) авария на  трубопроводе;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б) разрушение озонового слоя;        в) теракт в самолете;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г) прорыв плотины на ГЭС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ffffff"/>
                </a:solidFill>
                <a:latin typeface="Franklin Gothic Book"/>
              </a:rPr>
              <a:t>2. Распределите ЧС по порядку, в зависимости от скорости их развития: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а)внезапные; 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б) плавные;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в) скоротечные;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г) взрывные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ffffff"/>
                </a:solidFill>
                <a:latin typeface="Franklin Gothic Book"/>
              </a:rPr>
              <a:t>3. Что не относится к классификации ЧС по масштабам: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а) территориальные; 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б) локальные; 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в) административные; 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г) федеральны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marL="514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АЕМЫЕ ВОПРОСЫ</a:t>
            </a:r>
            <a:br>
              <a:rPr sz="4600"/>
            </a:br>
            <a:r>
              <a:rPr b="1" lang="ru-RU" sz="3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Чрезвычайные ситуации. Общая классификация.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Классификация ЧС техногенного характера.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Классификация ЧС природного характера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ffffff"/>
                </a:solidFill>
                <a:latin typeface="Franklin Gothic Book"/>
              </a:rPr>
              <a:t>4. При какой ЧС поражающие факторы выходят за пределы двух субъектов: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а) трансграничной; 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б) региональной; 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в) федеральной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ffffff"/>
                </a:solidFill>
                <a:latin typeface="Franklin Gothic Book"/>
              </a:rPr>
              <a:t>5.  В какой фазе развития ЧС происходит процесс чрезвычайного события: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а)1;     б) 2;    в) 3      </a:t>
            </a: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                 </a:t>
            </a: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Домашнее задание.</a:t>
            </a:r>
            <a:br>
              <a:rPr sz="3600"/>
            </a:br>
            <a:br>
              <a:rPr sz="3600"/>
            </a:b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1. Конспект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2. Ответы на вопросы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3. Посмотреть видео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Franklin Gothic Book"/>
                <a:hlinkClick r:id="rId1"/>
              </a:rPr>
              <a:t>https://pptcloud.ru/obzh/chs_prirodnogo_tehnogennogo_haraktera</a:t>
            </a: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Домашнее задание сдать до 21.10.2020</a:t>
            </a:r>
            <a:br>
              <a:rPr sz="5400"/>
            </a:b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ada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497800" cy="141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Franklin Gothic Book"/>
              </a:rPr>
              <a:t>      </a:t>
            </a:r>
            <a:r>
              <a:rPr b="1" lang="ru-RU" sz="3200" spc="-1" strike="noStrike">
                <a:solidFill>
                  <a:srgbClr val="f91503"/>
                </a:solidFill>
                <a:latin typeface="Times New Roman"/>
                <a:ea typeface="Times New Roman"/>
              </a:rPr>
              <a:t>ВОПРОС 1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</a:t>
            </a:r>
            <a:r>
              <a:rPr b="1" lang="ru-RU" sz="3200" spc="-1" strike="noStrike">
                <a:solidFill>
                  <a:srgbClr val="f91503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чрезвычайных ситуаций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250920" y="1557360"/>
            <a:ext cx="8496360" cy="5771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Чрезвычайная ситуация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(ЧС)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— это нарушение нормальных условий жизнедеятельности людей на определенной территории, вызванное аварией, катастрофой, стихийным или экологическим бедствием, в результате которых возникает угроза жизни и здоровью, наносится ущерб имуществу населения, народному хозяйству и окружающей природной сред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80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75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По причине возникновения ЧС делят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намеренные (война, диверсия) и непреднамеренные    (стихийные  бедствия)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4788000" y="2357280"/>
            <a:ext cx="4268520" cy="40006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ShowImage122"/>
          <p:cNvPicPr/>
          <p:nvPr/>
        </p:nvPicPr>
        <p:blipFill>
          <a:blip r:embed="rId2"/>
          <a:stretch/>
        </p:blipFill>
        <p:spPr>
          <a:xfrm>
            <a:off x="250920" y="2205000"/>
            <a:ext cx="4321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a07"/>
          <p:cNvPicPr/>
          <p:nvPr/>
        </p:nvPicPr>
        <p:blipFill>
          <a:blip r:embed="rId1"/>
          <a:stretch/>
        </p:blipFill>
        <p:spPr>
          <a:xfrm>
            <a:off x="250920" y="2421000"/>
            <a:ext cx="4105080" cy="4176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asi14"/>
          <p:cNvPicPr/>
          <p:nvPr/>
        </p:nvPicPr>
        <p:blipFill>
          <a:blip r:embed="rId2"/>
          <a:stretch/>
        </p:blipFill>
        <p:spPr>
          <a:xfrm>
            <a:off x="4572000" y="2421000"/>
            <a:ext cx="4321080" cy="417672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3"/>
          <p:cNvSpPr/>
          <p:nvPr/>
        </p:nvSpPr>
        <p:spPr>
          <a:xfrm>
            <a:off x="250920" y="189000"/>
            <a:ext cx="85690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2. По природе возникновения ЧС делят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природные - стихийные бедствия (землетрясения, наводнения, цунами,  сели, оползни,  лавины, снежные заносы и др.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техногенные аварии и катастрофы (взрывы, пожары, выбросы ядовитых и радиоактивных веществ, обрушение зданий, аварии на системах жизнеобеспечения и др.);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321080" cy="4537080"/>
          </a:xfrm>
          <a:prstGeom prst="rect">
            <a:avLst/>
          </a:prstGeom>
          <a:ln w="0">
            <a:noFill/>
          </a:ln>
        </p:spPr>
      </p:pic>
      <p:pic>
        <p:nvPicPr>
          <p:cNvPr id="273" name="Содержимое 5" descr="-god-nazad-proizoshla-avarija-na-chernobylskoj-aes-foto_19003_s__6.jpg"/>
          <p:cNvPicPr/>
          <p:nvPr/>
        </p:nvPicPr>
        <p:blipFill>
          <a:blip r:embed="rId2"/>
          <a:stretch/>
        </p:blipFill>
        <p:spPr>
          <a:xfrm>
            <a:off x="4716360" y="2060640"/>
            <a:ext cx="4176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антропогенные - являются следствием ошибочных действий людей;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5" name="Picture 4" descr="26BR6967"/>
          <p:cNvPicPr/>
          <p:nvPr/>
        </p:nvPicPr>
        <p:blipFill>
          <a:blip r:embed="rId1"/>
          <a:stretch/>
        </p:blipFill>
        <p:spPr>
          <a:xfrm>
            <a:off x="250920" y="1341360"/>
            <a:ext cx="86421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62800" cy="2060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) экологические - аномальные изменения состояния природной среды (качественное изменение биосферы, заражение почвы, воды, атмосферы, нарушение озонового слоя);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7" name="Picture 2" descr="miracle2-1-big"/>
          <p:cNvPicPr/>
          <p:nvPr/>
        </p:nvPicPr>
        <p:blipFill>
          <a:blip r:embed="rId1"/>
          <a:stretch/>
        </p:blipFill>
        <p:spPr>
          <a:xfrm>
            <a:off x="250920" y="2276640"/>
            <a:ext cx="4465440" cy="4321080"/>
          </a:xfrm>
          <a:prstGeom prst="rect">
            <a:avLst/>
          </a:prstGeom>
          <a:ln w="0">
            <a:noFill/>
          </a:ln>
        </p:spPr>
      </p:pic>
      <p:pic>
        <p:nvPicPr>
          <p:cNvPr id="278" name="i-main-pic" descr="Картинка 5 из 4023"/>
          <p:cNvPicPr/>
          <p:nvPr/>
        </p:nvPicPr>
        <p:blipFill>
          <a:blip r:embed="rId2"/>
          <a:stretch/>
        </p:blipFill>
        <p:spPr>
          <a:xfrm>
            <a:off x="4932360" y="2276640"/>
            <a:ext cx="3960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) социальные (мошенничество, бандитизм, разбой, террор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0" name="Picture 3" descr="4"/>
          <p:cNvPicPr/>
          <p:nvPr/>
        </p:nvPicPr>
        <p:blipFill>
          <a:blip r:embed="rId1"/>
          <a:stretch/>
        </p:blipFill>
        <p:spPr>
          <a:xfrm>
            <a:off x="250920" y="1889280"/>
            <a:ext cx="5184720" cy="4968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"/>
          <p:cNvPicPr/>
          <p:nvPr/>
        </p:nvPicPr>
        <p:blipFill>
          <a:blip r:embed="rId2"/>
          <a:stretch/>
        </p:blipFill>
        <p:spPr>
          <a:xfrm>
            <a:off x="5580000" y="3933720"/>
            <a:ext cx="3240000" cy="29242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"/>
          <p:cNvPicPr/>
          <p:nvPr/>
        </p:nvPicPr>
        <p:blipFill>
          <a:blip r:embed="rId3"/>
          <a:stretch/>
        </p:blipFill>
        <p:spPr>
          <a:xfrm>
            <a:off x="5724360" y="1557360"/>
            <a:ext cx="31687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5T12:12:07Z</dcterms:created>
  <dc:creator>user</dc:creator>
  <dc:description/>
  <dc:language>en-US</dc:language>
  <cp:lastModifiedBy>Зам</cp:lastModifiedBy>
  <dcterms:modified xsi:type="dcterms:W3CDTF">2020-10-16T14:18:29Z</dcterms:modified>
  <cp:revision>194</cp:revision>
  <dc:subject/>
  <dc:title>Чрезвычайные ситуациии</dc:title>
</cp:coreProperties>
</file>